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FA31-183B-4074-BB7C-45776329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D175-AC11-49E0-8580-5B5F8A99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EE13-F510-4C6D-9D1A-F11F3085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C7CC-01D5-4FEC-B671-FCA0B300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73AF-7C6C-469C-A107-E4EBECAF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E5C1-8C2E-4C71-88AD-EB1C9DDE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7816-0F26-4378-8B13-F7389302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1D41-368B-4F46-8DF8-E211464A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9E97-8059-4ABC-992A-5B7F47D3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B058-F7E2-424A-A0EA-61711286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5953-0351-42C1-B855-CA468011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D3C7-21E7-457B-97A1-F0DAC236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8442-7653-4DAA-BFB1-AECF0191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E755-5950-4CBC-BB66-D5A39886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291F-C94B-4948-B3F6-BD94477D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3D40-A456-42D0-8ED2-D81CBAF0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52CB-5993-45F7-B18E-401AAA15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394E-F708-4875-9DFE-E30A4193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ACE1-3695-47BF-AB15-208DEA55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9AB6-3670-4D5F-9609-B6C7779B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0D9F-D136-434A-A5A8-293C3717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78E-E99E-4221-95CA-5C39A8E9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691B-8663-452C-B057-0F6F679A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6DD0-540C-4993-A5FD-219A2202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82FF-0AE2-4AF6-BD19-8CB04A9111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2F06-F304-45F5-BB1A-2625F3774F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gi.ebay.es/Vision-nocturna-4-0-Mega-Pixel-Webcam-Camara-Web-Mic_W0QQitemZ110442300632QQcategoryZ4616QQcmdZViewItemQQ_trksidZp4340.m263QQ_trkparmsZalgo%3DSI%26its%3DI%26itu%3DUCI%252BRTQ%26otn%3D10%26ps%3D6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ccity.es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ccity.es/pantalla_de_proyeccion_optoma_84__ds-3084pm_60013969_p.html" TargetMode="External"/><Relationship Id="rId2" Type="http://schemas.openxmlformats.org/officeDocument/2006/relationships/hyperlink" Target="http://www.pccity.es/pantalla_de_proyeccion_optoma_84__ds-3084pm_60013969_p.html" TargetMode="External"/><Relationship Id="rId3" Type="http://schemas.openxmlformats.org/officeDocument/2006/relationships/hyperlink" Target="http://www.pccity.es/pantalla_de_proyeccion_optoma_84__ds-3084pm_60013969_p.html" TargetMode="External"/><Relationship Id="rId4" Type="http://schemas.openxmlformats.org/officeDocument/2006/relationships/hyperlink" Target="http://www.pccity.es/pantalla_de_proyeccion_optoma_84__ds-3084pm_60013969_p.html" TargetMode="External"/><Relationship Id="rId5" Type="http://schemas.openxmlformats.org/officeDocument/2006/relationships/hyperlink" Target="http://www.pccity.es/pantalla_de_proyeccion_optoma_84__ds-3084pm_60013969_p.html" TargetMode="External"/><Relationship Id="rId6" Type="http://schemas.openxmlformats.org/officeDocument/2006/relationships/hyperlink" Target="http://www.pccity.es/pantalla_de_proyeccion_optoma_84__ds-3084pm_60013969_p.html" TargetMode="External"/><Relationship Id="rId7" Type="http://schemas.openxmlformats.org/officeDocument/2006/relationships/hyperlink" Target="http://www.pccity.es/pantalla_de_proyeccion_optoma_84__ds-3084pm_60013969_p.html" TargetMode="External"/><Relationship Id="rId8" Type="http://schemas.openxmlformats.org/officeDocument/2006/relationships/hyperlink" Target="http://www.pccity.es/pantalla_de_proyeccion_optoma_84__ds-3084pm_60013969_p.html" TargetMode="External"/><Relationship Id="rId9" Type="http://schemas.openxmlformats.org/officeDocument/2006/relationships/hyperlink" Target="http://www.pccity.es/pantalla_de_proyeccion_optoma_84__ds-3084pm_60013969_p.html" TargetMode="External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aikun.com/cst_b2c/portal/TV-de-LCD---Plasma_0019/LCD-de-37--y-40-_0005/LG_37_LF_2510_P001867.html?gclid=CKvv1tuEhZ0CFUxs4wodUC9_bQ" TargetMode="External"/><Relationship Id="rId2" Type="http://schemas.openxmlformats.org/officeDocument/2006/relationships/hyperlink" Target="http://www.vaikun.com/cst_b2c/portal/TV-de-LCD---Plasma_0019/LCD-de-37--y-40-_0005/LG_37_LF_2510_P001867.html?gclid=CKvv1tuEhZ0CFUxs4wodUC9_bQ" TargetMode="External"/><Relationship Id="rId3" Type="http://schemas.openxmlformats.org/officeDocument/2006/relationships/hyperlink" Target="http://www.vaikun.com/cst_b2c/portal/TV-de-LCD---Plasma_0019/LCD-de-37--y-40-_0005/LG_37_LF_2510_P001867.html?gclid=CKvv1tuEhZ0CFUxs4wodUC9_bQ" TargetMode="External"/><Relationship Id="rId4" Type="http://schemas.openxmlformats.org/officeDocument/2006/relationships/hyperlink" Target="http://www.vaikun.com/cst_b2c/portal/TV-de-LCD---Plasma_0019/LCD-de-37--y-40-_0005/LG_37_LF_2510_P001867.html?gclid=CKvv1tuEhZ0CFUxs4wodUC9_bQ" TargetMode="External"/><Relationship Id="rId5" Type="http://schemas.openxmlformats.org/officeDocument/2006/relationships/hyperlink" Target="http://www.vaikun.com/cst_b2c/portal/TV-de-LCD---Plasma_0019/LCD-de-37--y-40-_0005/LG_37_LF_2510_P001867.html?gclid=CKvv1tuEhZ0CFUxs4wodUC9_bQ" TargetMode="External"/><Relationship Id="rId6" Type="http://schemas.openxmlformats.org/officeDocument/2006/relationships/hyperlink" Target="http://www.vaikun.com/cst_b2c/portal/TV-de-LCD---Plasma_0019/LCD-de-37--y-40-_0005/LG_37_LF_2510_P001867.html?gclid=CKvv1tuEhZ0CFUxs4wodUC9_bQ" TargetMode="External"/><Relationship Id="rId7" Type="http://schemas.openxmlformats.org/officeDocument/2006/relationships/hyperlink" Target="http://www.vaikun.com/cst_b2c/portal/TV-de-LCD---Plasma_0019/LCD-de-37--y-40-_0005/LG_37_LF_2510_P001867.html?gclid=CKvv1tuEhZ0CFUxs4wodUC9_bQ" TargetMode="External"/><Relationship Id="rId8" Type="http://schemas.openxmlformats.org/officeDocument/2006/relationships/hyperlink" Target="http://www.vaikun.com/cst_b2c/portal/TV-de-LCD---Plasma_0019/LCD-de-37--y-40-_0005/LG_37_LF_2510_P001867.html?gclid=CKvv1tuEhZ0CFUxs4wodUC9_bQ" TargetMode="External"/><Relationship Id="rId9" Type="http://schemas.openxmlformats.org/officeDocument/2006/relationships/hyperlink" Target="http://www.vaikun.com/cst_b2c/portal/TV-de-LCD---Plasma_0019/LCD-de-37--y-40-_0005/LG_37_LF_2510_P001867.html?gclid=CKvv1tuEhZ0CFUxs4wodUC9_bQ" TargetMode="External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ciones de venta de materia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ma Rodríguez Pelá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ván Mariani martí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sco duro portáti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427640" y="148392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mega Reproductor multimedia ScreenPlay TV Link USB 2.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Impresora láser a4: </a:t>
            </a:r>
            <a:r>
              <a:rPr b="1" lang="es-ES" sz="3400" spc="-1" strike="noStrike">
                <a:solidFill>
                  <a:srgbClr val="000000"/>
                </a:solidFill>
                <a:latin typeface="Arial"/>
              </a:rPr>
              <a:t>Pixma iP4600/NON A4 26ppm 9600dpi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425448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Tipo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de impresora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presora de fotos - chorro de tinta - color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imensiones (Ancho x Profundidad x Altura)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43.1 cm x 29.6 cm x 15.3 cm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Peso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5.7 kg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Tecnología de inyección de tinta:Canon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FINE (Full-lithography inkjet Nozzle Engineering)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aleta de tinta admitida (colores)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5 tintas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Tamaño máx. soporte (estándar)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Letter, Legal, A4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Tamaño máximo de soporte (personalizado)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216 mm x 356 mm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Velocidad de impresión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Hasta 26 ppm - B/W ¦ Hasta 21 ppm - color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resolución máxima (color)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9600 ppp x 2400 ppp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-Impresión de salida duplex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Duplex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-Impresión de CD/DVD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Sí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terfaz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USB, USB para impresión directa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-Tipo de soporte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Sobres, papel normal, papel fotográfico brillante , papel fotográfico semisatinado, papel fotográfico mate, papel de alta resolución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-Capacidad total del material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300 hojas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anejo de soportes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andeja de entrada de 150 hojas, casete de papel de 150 hojas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Opciones de la impresora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presión a sangre, impresión de CD/DVD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-Alimentación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CA 120/230 V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-Requisitos del sistema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Microsoft Windows 2000, Microsoft Windows XP, Microsoft Windows Vista, Apple MacOS X 10.3.9 - 10.5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-Estándares medioambientales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EPA Energy Star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64000" y="2997360"/>
            <a:ext cx="304668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presora de tinta A2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" impresora de gran form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color - chorro de tin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A2, ARCH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capacidad: 150 hoj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paralelo, USB" Q6655A#4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92720" y="234936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spach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nuestros despachos requerimos del siguiente material anunciado a continuació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rdenador comple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locidad del Procesador: 2,3 GH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moria RAM: 3072 M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co Duro: 320 G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udio: Alta definición 7.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mensiones: 169 x 426 x 377 mm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eso: 9,53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cluye teclado y ratón de tipo óp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onitor: Compaq WF1907v de 19'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arca: Compaq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cesador: AMD Athlon 64 X2 4450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500 eu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48320" y="184644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rdenador portáti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ntalla grande ----- Precio pequeñ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plia pantalla de 17,3" de alta defini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rjeta gráfica ATI Mobility RadeonTM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ctor de tarjet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ámara Web de 1,3 mega píx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cnología wifi y bluetho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seño eleg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rca 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cio : 3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788000" y="1986120"/>
            <a:ext cx="328428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A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 sistema de alimentación interrumpida que gracias a sus baterías puede proporcionar energía eléctrica tras un apagón a todos los dispositivos que tenga conect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3778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2707920"/>
            <a:ext cx="821844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 la sala de usos múltiples   disponemos d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rdenador comple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locidad del Procesador: 2,3 GH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ria RAM: 3072 M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co Duro: 320 G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udio: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ta definición 7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mensiones: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69 x 426 x 377 mm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so: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,53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ye teclado y ratón de tipo óp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nitor: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aq WF1907v de 19'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ca: Compa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sador: AMD Athlon 64 X2 4450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500 e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84644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ámara y micrófono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cgi.ebay.es/Vision-nocturna-4-0-Mega-Pixel-Webcam-Camara-Web-Mic_W0QQitemZ110442300632QQcategoryZ4616QQcmdZViewItemQQ_trksidZp4340.m263QQ_trkparmsZalgo%3DSI%26its%3DI%26itu%3DUCI%252BRTQ%26otn%3D10%26ps%3D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xcelentes calidades de imagen y son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0 Mega Pixe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 Visión noctur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icrófono integrad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762440" y="196056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yec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yector liviano y portá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al para pres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ye arranque instantáneo en 4 segundos , para evitar retr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ácil de u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cho: 32,8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undidad: 24,5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o: 10,0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so: 2,6 K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Precio : 1.112 e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www.pccity.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88000" y="2963880"/>
            <a:ext cx="286704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ntalla para el proyector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aracterística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lanco Mate con ganancia 1.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iseño de montaje en pared y tec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antalla de Proyección Universal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• Fácil instal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stema instantáneo de tope de fij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deal para oficinas, colegios, salas de confer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specificaciones Detalladas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• Número de Modelo DS-3084PM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• Tipo Manual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• Formato 4:3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• Ganancia 1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• Material de Pantalla Blanco Mate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• Tamaño de Visualización (anchoxalto) (mm) 171x128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• Visualización Diagonal (pulgada) 84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• Borde Negro Derecho e Izquierdo de la Pantalla (mm) 5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• Borde Negro Inferior (mm) 5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• Borde Negro Superior (mm)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1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://</a:t>
            </a:r>
            <a:r>
              <a:rPr b="0" lang="es-ES" sz="1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www.pccity.es</a:t>
            </a:r>
            <a:r>
              <a:rPr b="0" lang="es-ES" sz="12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/</a:t>
            </a:r>
            <a:r>
              <a:rPr b="0" lang="es-ES" sz="12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pantalla_de_proyeccion_optoma</a:t>
            </a:r>
            <a:r>
              <a:rPr b="0" lang="es-ES" sz="12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_84__</a:t>
            </a:r>
            <a:r>
              <a:rPr b="0" lang="es-ES" sz="12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ds</a:t>
            </a:r>
            <a:r>
              <a:rPr b="0" lang="es-ES" sz="12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-3084pm_60013969_</a:t>
            </a:r>
            <a:r>
              <a:rPr b="0" lang="es-ES" sz="12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p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recio : 79 e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0"/>
          <a:stretch/>
        </p:blipFill>
        <p:spPr>
          <a:xfrm>
            <a:off x="5173560" y="1916280"/>
            <a:ext cx="33591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ntalla TV de gran tamaño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elevisor de LCD de 37" FullHD con HD-TD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odrás disfrutar de la TDT de Alta Defini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amaño de pantalla  37'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horro de Ener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imension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ncho 919,6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-Alto  682,3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- Peso incl. soporte 18,8 (K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14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://</a:t>
            </a:r>
            <a:r>
              <a:rPr b="0" lang="es-ES" sz="14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www.vaikun.com</a:t>
            </a:r>
            <a:r>
              <a:rPr b="0" lang="es-ES" sz="14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/</a:t>
            </a:r>
            <a:r>
              <a:rPr b="0" lang="es-ES" sz="14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cst_b2c</a:t>
            </a:r>
            <a:r>
              <a:rPr b="0" lang="es-ES" sz="14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/portal/TV-de-LCD---Plasma_0019/LCD-de-37--y-40-_0005/LG_37_LF_2510_P001867.</a:t>
            </a:r>
            <a:r>
              <a:rPr b="0" lang="es-ES" sz="14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html?gclid=CKvv1tuEhZ0CFUxs4wodUC9</a:t>
            </a:r>
            <a:r>
              <a:rPr b="0" lang="es-ES" sz="14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_</a:t>
            </a:r>
            <a:r>
              <a:rPr b="0" lang="es-ES" sz="14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b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* Precio : 548 e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0"/>
          <a:stretch/>
        </p:blipFill>
        <p:spPr>
          <a:xfrm>
            <a:off x="4788000" y="191628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ficina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nuestra sala de oficinas disponemos del uso de un material , del cual anunciaremos a continuació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rdenador comple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locidad del Procesador: 2,3 GH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moria RAM: 3072 M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co Duro: 320 G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udio: Alta definición 7.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mensiones: 169 x 426 x 377 mm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eso: 9,53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cluye teclado y ratón de tipo óp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onitor: Compaq WF1907v de 19'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arca: Compaq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cesador: AMD Athlon 64 X2 4450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500 eu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8320" y="184644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0:47:05Z</dcterms:created>
  <dc:creator>Usuario</dc:creator>
  <dc:description/>
  <dc:language>en-US</dc:language>
  <cp:lastModifiedBy>Usuario</cp:lastModifiedBy>
  <dcterms:modified xsi:type="dcterms:W3CDTF">2009-10-21T08:51:51Z</dcterms:modified>
  <cp:revision>7</cp:revision>
  <dc:subject/>
  <dc:title>Opciones de venta de materiales </dc:title>
</cp:coreProperties>
</file>